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DD6-0BE1-4B3B-8D34-B7B5C911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B31-454B-4C4F-A992-EB36562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284-DECA-4461-8D24-8198C76A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C02-D7E6-42DB-BDD8-7D61814A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15E-EBA3-45A2-BDAB-D3495C15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D4C-57B7-4BD9-8D8F-4B4D6396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05E-22AF-42A4-8DE7-7D40C8BA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837-EA2B-4209-A931-DF5834BF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C43-0FD4-4033-AA43-CF0396E5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270-995F-42AA-98AE-C9E6F846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259-3C5C-471C-A777-D169328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674-E47D-4BAD-A947-DA0C52EF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E94-44A1-400D-8403-70228544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632560" cy="451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3760" y="228600"/>
            <a:ext cx="75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nother kind of artwork called a mezzoti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6600" y="556272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35260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2971800" cy="2384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89640" y="380880"/>
            <a:ext cx="70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compare and contrast these two ar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73392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close attentio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or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505320"/>
            <a:ext cx="29718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House March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Donald Sultan, American, 19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latex &amp; tar on 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96” x 9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35440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0920" y="533412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2819160" cy="226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3505320"/>
            <a:ext cx="29718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421 Nights; Welco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Donald F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Mezzot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” x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inference, descriptive language,                                                                                  character’s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homes and communities,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texture, light, feelings, art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265560" cy="32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191120" cy="33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54184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3760" y="304920"/>
            <a:ext cx="80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painting very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080" y="4572000"/>
            <a:ext cx="82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you can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jects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 cannot recogn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49360" y="4648320"/>
            <a:ext cx="56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in this artwork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64356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0800" y="3962520"/>
            <a:ext cx="812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o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you have when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is painting?  Can you explain why you feel that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could be happening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show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 opin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49092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7080" y="4038480"/>
            <a:ext cx="81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ainters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really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this painter may hav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you use to tell abou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is paint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724280"/>
            <a:ext cx="796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nds and smells that might be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Explain why you think t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ounds and smells  so exactly that others will be able to imagine them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989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4648320"/>
            <a:ext cx="79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724280"/>
            <a:ext cx="77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is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(story tell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ory could you tell that wou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1:51:24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